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lnSpc>
                <a:spcPct val="145000"/>
              </a:lnSpc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76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33AE-1737-407E-A14C-8C1032E6626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87B3-1334-40E0-B8DA-C6E709975EC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E83F-1AB6-43DB-8CB3-210888F1AC1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1C35-4C88-4169-87FB-84E1574176A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97AE-80CB-44E5-B17A-6501CCCD337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CD87-74FF-437A-B8E5-75C71F1CF90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0FA8-80AD-4323-9364-FA061051C37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4D9C-9BF5-4AC1-8531-E16C4CECAA4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823B-C79B-47F0-B446-AE5177340F6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4902-6EE5-4817-8337-EC88EB4A5E7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3BB6-887C-42E4-B4DF-6A306BB4620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CBC1-4F1B-4EE5-8436-2F3FB26EC07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1372-C7A1-46E3-B873-9D17C8DFE60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914F-A1C8-40A2-8249-A2BDC32AEBF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EE85-9430-4FD6-A2F2-5BB756C45BF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9A90-5E90-4D87-A8D2-F5C18052BA6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AE0E-749A-4388-8FCB-99B82C840C4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612C-EAF6-4304-B69E-53CFED16F63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2D50-1009-4BBB-82CD-659057970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2A55-3C4E-41EF-A748-85347371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5D86-D697-4440-9E06-696AF911E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870E-898F-4B30-8881-C1B195C3C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7CA7-12B5-450A-A5B9-75C7D334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44CF-14EF-461F-83AB-61DB968E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0F60-A6CB-4D43-9A46-4B265408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6622-94BE-40E8-83C0-E2B6349C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2EB5-F831-4213-AE96-961FD42D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5606-D5B4-46F8-9059-5F230DCD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D2CF-9F8B-4FEA-A450-C50A1731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1FD1-3D3A-4FA4-889F-49F4B35F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C9BC-80D8-42E4-8851-CF140566150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team.cz/cz/products/rp/logframe.pdf" TargetMode="External"/><Relationship Id="rId2" Type="http://schemas.openxmlformats.org/officeDocument/2006/relationships/hyperlink" Target="http://www.partnerstvi-jmk.cz/page.php?action=detail&amp;id=94" TargetMode="External"/><Relationship Id="rId3" Type="http://schemas.openxmlformats.org/officeDocument/2006/relationships/hyperlink" Target="http://www.logframe.cz/metoda.ht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s://forum.esfcr.cz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Specifická kritéria výzvy č. 88 </a:t>
            </a:r>
            <a:br>
              <a:rPr sz="32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92000" y="2492280"/>
            <a:ext cx="65516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493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2800"/>
            </a:b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OP LZZ – výzva č. 88 Rovné příležitosti žen a mužů na trhu práce a slaďová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raha/Brno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407e"/>
                </a:solidFill>
                <a:latin typeface="Arial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výstupy a výsledk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loužící pro dosažení účelu projek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tupy -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se skutečně zrealizovalo; realizátoři projektu nesou za jejich dosažní přímou odpovědnost (za splnění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edpokladů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); konkrétní popis toho, co se vytvoří, zdokonalí, inovuje…); je-li jich více -- nutno je popsat a očíslo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provedené genderové audity ve firmá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ytvořená interní směrnice k zavádění relevantní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ytvořená statistika využívání genderových opatře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ledk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- okamžité dopady projektu (čeho bude s ukončením projektu dosaženo) - používá se trpný rod (ve tvaru přídavného jména) popisující situaci na konci projektu (inovovaný produkt, motivované firmy pro prosazování tématu slaďová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zlepšení přístupu firem v regionu XY k problematice slaďování rodinného  pracovního živ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lepšení zaměstnanosti v regionu díky využití genderový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aktivit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sloužící k dosažení výstupů - ke každému výstupu přiřadit 2-4 aktivity se zdroji dostupnými pro vytvoření výstupů; činnosti, které jsou předmětem projektu (jejich logická a časová posloupnost) - jak bude projekt realizov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Genderový audit ve firmá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iskuzní kulatý stů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ytvoření interních směrnic ve firmá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edstavení výsledků zaměstnancům podni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pojení Úřadu práce ČR - propagace podpory slaďování při nabízení práce a při jednání s ostatními podniky zapojenými do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pracování statistiky využívání nový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vantitativní výzkum a evaluace v regionu (firmá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 vyplnění sloupce intervenčních cílů ověř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ertikální logiku pomocí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Jestliže/Pak -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usí být uvedeny všechny faktory ovlivňující dosažení vyšší úrovně (dosažení vyšší úrovně je podmíněno splněním úrovně nižš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objektivně ověřitelné ukazatele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jednotlivých úrovních logického rámc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Řídit lze jen to, co lze měřit (u aktivit se uvádějí ukazatelé vstupů) - co, kolik, kdy, pro koho, kde. Pro měření jedné aktivity, výsledku či výstupů, a účelu - 2-3 ukazatel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i projektech financovaných ze strukturálních fondů je dobré vycházet ze seznamu monitorovacích ukazatelů pro dané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15 firem projde genderovým auditem (počet podpořených osob 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20% zaměstnanců využije zavedený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zdroje objektivního ověření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jednotlivých úrovních logického rámce - pouze ukazatele, které je možno ověřit-- tj. validn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jsou-li jasné zdroje, je nutno v projektu učinit opatření, které povedou k jejich získání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u aktivit -- časový údaj o začátku a ukončení každé ak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ředpoklad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na jednotlivých úrovních logického rámce -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rizika přeformulovat do pozitivní podoby jako předpoklad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předpokládáme o vnějších faktorech, na něž projekt nemá vliv, ale které mohou ovlivnit jeho realizaci a dlouhodobě i jeho udržitelno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povědi jsou strukturovány podle jednotlivých úrovní Cílů, Účelů, Výstupů a Aktivit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ledním řádkem tohoto sloupce jsou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ředběžné podmínk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(připravenost k realizaci), jejichž splnění podmiňuje zahájení celého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Příprava projektu a jeho schválení poskytovatelem dotace, schopný realizační tým a genderový exper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412640"/>
            <a:ext cx="82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Plátno 26"/>
          <p:cNvGrpSpPr/>
          <p:nvPr/>
        </p:nvGrpSpPr>
        <p:grpSpPr>
          <a:xfrm>
            <a:off x="1187280" y="1665360"/>
            <a:ext cx="6913800" cy="3995640"/>
            <a:chOff x="1187280" y="1665360"/>
            <a:chExt cx="6913800" cy="3995640"/>
          </a:xfrm>
        </p:grpSpPr>
        <p:sp>
          <p:nvSpPr>
            <p:cNvPr id="99" name="Obdélník 30"/>
            <p:cNvSpPr/>
            <p:nvPr/>
          </p:nvSpPr>
          <p:spPr>
            <a:xfrm>
              <a:off x="1187280" y="1665360"/>
              <a:ext cx="6913800" cy="39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buClr>
                  <a:srgbClr val="143f7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pic>
          <p:nvPicPr>
            <p:cNvPr id="100" name="Picture 32" descr=""/>
            <p:cNvPicPr/>
            <p:nvPr/>
          </p:nvPicPr>
          <p:blipFill>
            <a:blip r:embed="rId1"/>
            <a:stretch/>
          </p:blipFill>
          <p:spPr>
            <a:xfrm>
              <a:off x="1187280" y="1838880"/>
              <a:ext cx="6361920" cy="316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Line 33"/>
            <p:cNvSpPr/>
            <p:nvPr/>
          </p:nvSpPr>
          <p:spPr>
            <a:xfrm>
              <a:off x="2945160" y="2590920"/>
              <a:ext cx="0" cy="1680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2" name="Text Box 34"/>
            <p:cNvSpPr/>
            <p:nvPr/>
          </p:nvSpPr>
          <p:spPr>
            <a:xfrm>
              <a:off x="2462040" y="249012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3" name="Text Box 35"/>
            <p:cNvSpPr/>
            <p:nvPr/>
          </p:nvSpPr>
          <p:spPr>
            <a:xfrm>
              <a:off x="2478240" y="39819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4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4" name="Text Box 36"/>
            <p:cNvSpPr/>
            <p:nvPr/>
          </p:nvSpPr>
          <p:spPr>
            <a:xfrm>
              <a:off x="7005240" y="450288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6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5" name="Text Box 37"/>
            <p:cNvSpPr/>
            <p:nvPr/>
          </p:nvSpPr>
          <p:spPr>
            <a:xfrm>
              <a:off x="2945160" y="257184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5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6" name="Text Box 38"/>
            <p:cNvSpPr/>
            <p:nvPr/>
          </p:nvSpPr>
          <p:spPr>
            <a:xfrm>
              <a:off x="2478240" y="29397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2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7" name="Text Box 39"/>
            <p:cNvSpPr/>
            <p:nvPr/>
          </p:nvSpPr>
          <p:spPr>
            <a:xfrm>
              <a:off x="2478240" y="34401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3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8" name="Line 40"/>
            <p:cNvSpPr/>
            <p:nvPr/>
          </p:nvSpPr>
          <p:spPr>
            <a:xfrm flipH="1" flipV="1">
              <a:off x="3251880" y="4213080"/>
              <a:ext cx="3805560" cy="63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9" name="Text Box 41"/>
            <p:cNvSpPr/>
            <p:nvPr/>
          </p:nvSpPr>
          <p:spPr>
            <a:xfrm>
              <a:off x="3498480" y="326664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8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0" name="Text Box 42"/>
            <p:cNvSpPr/>
            <p:nvPr/>
          </p:nvSpPr>
          <p:spPr>
            <a:xfrm>
              <a:off x="2931480" y="4908960"/>
              <a:ext cx="443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0</a:t>
              </a:r>
              <a:endParaRPr b="0" lang="en-US" sz="16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1" name="Text Box 43"/>
            <p:cNvSpPr/>
            <p:nvPr/>
          </p:nvSpPr>
          <p:spPr>
            <a:xfrm>
              <a:off x="3505320" y="274572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9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2" name="Text Box 44"/>
            <p:cNvSpPr/>
            <p:nvPr/>
          </p:nvSpPr>
          <p:spPr>
            <a:xfrm>
              <a:off x="3505320" y="37875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7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3" name="Line 45"/>
            <p:cNvSpPr/>
            <p:nvPr/>
          </p:nvSpPr>
          <p:spPr>
            <a:xfrm>
              <a:off x="3560760" y="4155480"/>
              <a:ext cx="349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4" name="Line 46"/>
            <p:cNvSpPr/>
            <p:nvPr/>
          </p:nvSpPr>
          <p:spPr>
            <a:xfrm flipH="1" flipV="1">
              <a:off x="3498480" y="3750840"/>
              <a:ext cx="3558960" cy="404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5" name="Line 47"/>
            <p:cNvSpPr/>
            <p:nvPr/>
          </p:nvSpPr>
          <p:spPr>
            <a:xfrm>
              <a:off x="3560760" y="3634560"/>
              <a:ext cx="349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6" name="Line 48"/>
            <p:cNvSpPr/>
            <p:nvPr/>
          </p:nvSpPr>
          <p:spPr>
            <a:xfrm flipH="1" flipV="1">
              <a:off x="3498480" y="3228480"/>
              <a:ext cx="3558960" cy="406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7" name="Line 49"/>
            <p:cNvSpPr/>
            <p:nvPr/>
          </p:nvSpPr>
          <p:spPr>
            <a:xfrm>
              <a:off x="3560760" y="3113280"/>
              <a:ext cx="349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8" name="Line 50"/>
            <p:cNvSpPr/>
            <p:nvPr/>
          </p:nvSpPr>
          <p:spPr>
            <a:xfrm flipH="1" flipV="1">
              <a:off x="3498480" y="2707200"/>
              <a:ext cx="3558960" cy="406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9" name="Oval 51"/>
            <p:cNvSpPr/>
            <p:nvPr/>
          </p:nvSpPr>
          <p:spPr>
            <a:xfrm>
              <a:off x="1840680" y="1665360"/>
              <a:ext cx="6260400" cy="3995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45000"/>
                </a:lnSpc>
                <a:buClr>
                  <a:srgbClr val="143f7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4295520" y="2359800"/>
              <a:ext cx="1596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1" name="Text Box 53"/>
            <p:cNvSpPr/>
            <p:nvPr/>
          </p:nvSpPr>
          <p:spPr>
            <a:xfrm>
              <a:off x="4295520" y="2339640"/>
              <a:ext cx="443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1</a:t>
              </a:r>
              <a:endParaRPr b="0" lang="en-US" sz="16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2" name="Text Box 54"/>
            <p:cNvSpPr/>
            <p:nvPr/>
          </p:nvSpPr>
          <p:spPr>
            <a:xfrm>
              <a:off x="5386320" y="2339640"/>
              <a:ext cx="443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2</a:t>
              </a:r>
              <a:endParaRPr b="0" lang="en-US" sz="1600" spc="-1" strike="noStrike">
                <a:solidFill>
                  <a:srgbClr val="143f7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ečné čtení matice log.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412640"/>
            <a:ext cx="82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28" descr=""/>
          <p:cNvPicPr/>
          <p:nvPr/>
        </p:nvPicPr>
        <p:blipFill>
          <a:blip r:embed="rId1"/>
          <a:srcRect l="14214" t="33060" r="12230" b="10538"/>
          <a:stretch/>
        </p:blipFill>
        <p:spPr>
          <a:xfrm>
            <a:off x="611280" y="1596960"/>
            <a:ext cx="77058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412640"/>
            <a:ext cx="82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Příručka pro řízení rozvojových partnerství, Ministerstvo práce a sociálních věcí, 2008, str. 28-42. Dostupné z WWW: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http://www.equalcr.cz/files/clanky/7/Prirucka_pro_rizeni_rozvojovych_partnerstvi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CHUDOBA, Roman.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Formulace projektu metodou logického rámce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stupné z WWW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eam.cz/cz/products/rp/logframe.pdf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LACKO, Branislav.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etody a techniky projektového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ř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ízení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in Sborník vybraných kapitol z přípravy a řízení projektů. Výukový materiál z projektu Euromanažer. Krajské zařízení pro další vzdělávání pedagogických pracovníků a informační centrum, Nový Jičín, příspěvková Organiz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atice logického rámce. Metodický návod tvorby a použití logického rámce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Modul III.Akreditovaný vzdělávací program Mobilní projektový inkubátor. Dostupné z WWW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artnerstvi-jmk.cz/page.php?action=detail&amp;id=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etoda logického rámce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stupné z WWW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logframe.cz/metoda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Národní ústav odborného vzdělávání.: </a:t>
            </a: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Jak připravit projekty financované z evropských fondů v období 2007-2013 -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ožnosti čerpání prostředků</a:t>
            </a: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Příprava a zpracování projektu</a:t>
            </a: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Konkrétní rady pro tvorbu a podávání projektu. 1. Vyd., Praha, 2008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2400" spc="-1" strike="noStrike">
              <a:solidFill>
                <a:srgbClr val="d113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Děkuji za pozorn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sfcr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forum.esfcr.cz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Calibri"/>
              </a:rPr>
              <a:t>Zaměření projektu na ženy v předdůchodovém věk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 </a:t>
            </a:r>
            <a:r>
              <a:rPr b="0" lang="pt-BR" sz="1800" spc="-1" strike="noStrike">
                <a:solidFill>
                  <a:srgbClr val="143f7e"/>
                </a:solidFill>
                <a:latin typeface="Arial"/>
              </a:rPr>
              <a:t>zda a v jaké míře jso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rojektem podpořeny ženy v předdůchodovém vě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ezi osoby předdůchodového věku se řadí lidé, kteří přesáhli věkovou hranici </a:t>
            </a: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50 let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do dosažení hranice odchodu do důchod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Bodové zvýhodnění v rámci výzvy č. 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) Mezi cílovými skupinami projektu není zařazena cílová skupina ženy v předdůchodovém věku – </a:t>
            </a: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0 b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b) Cílová skupina ženy v předdůchodovém věku jsou jednou z několika cílových skupin projektu – </a:t>
            </a: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1 b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) Cílová skupina ženy v předdůchodovém věku jsou jedinou cílovou skupinou projektu – </a:t>
            </a: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3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Šipka doprava 3"/>
          <p:cNvSpPr/>
          <p:nvPr/>
        </p:nvSpPr>
        <p:spPr>
          <a:xfrm>
            <a:off x="531720" y="1909800"/>
            <a:ext cx="681120" cy="369720"/>
          </a:xfrm>
          <a:prstGeom prst="rightArrow">
            <a:avLst>
              <a:gd name="adj1" fmla="val 50000"/>
              <a:gd name="adj2" fmla="val 49835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53" name="Šipka doprava 3"/>
          <p:cNvSpPr/>
          <p:nvPr/>
        </p:nvSpPr>
        <p:spPr>
          <a:xfrm>
            <a:off x="531720" y="2462040"/>
            <a:ext cx="647640" cy="370080"/>
          </a:xfrm>
          <a:prstGeom prst="rightArrow">
            <a:avLst>
              <a:gd name="adj1" fmla="val 50000"/>
              <a:gd name="adj2" fmla="val 49786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Princip partne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Hlavním smyslem tvorby partnerství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úzká vzájemná spolupráce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různých typů organizac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které disponují odlišnými zkušenostmi s řešením problematiky v dané oblasti (vymezené jak regionálně, tak i tematicky) při realizaci projektu. Partneři se podílejí na fungování a naplňování cíle společného projektu, spoluúčast všech partnerů na projektu je podstatná a nezastupitelná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Český part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s finančním příspěvk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bez finančního příspěvk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musí patřit mezi oprávněné žadatele ve výzvě č. 8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Výjimku tvoří Úřad práce ČR, který může být partnerem, ovšem bez finančního příspěv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Ostatní organizační složky státu a jimi zřizované organizace mohou být pouze spolupracujícími organizacemi, nikoli partn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Šipka doprava 3"/>
          <p:cNvSpPr/>
          <p:nvPr/>
        </p:nvSpPr>
        <p:spPr>
          <a:xfrm>
            <a:off x="587520" y="1700280"/>
            <a:ext cx="647640" cy="369720"/>
          </a:xfrm>
          <a:prstGeom prst="rightArrow">
            <a:avLst>
              <a:gd name="adj1" fmla="val 50000"/>
              <a:gd name="adj2" fmla="val 49834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57" name="Šipka doprava 4"/>
          <p:cNvSpPr/>
          <p:nvPr/>
        </p:nvSpPr>
        <p:spPr>
          <a:xfrm>
            <a:off x="528480" y="444672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Princip partne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vaha právních vztahů mezi žadatelem a jeho partnery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esmí být založena na poskytování služeb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běžně dostupných na trh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Realizace principu partnerství nesmí být v rozporu s příslušnými právními předpisy ČR, zejména principu partnerství nesmí být zneužito k obcházení zákona o veřejných zakázká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Bodové zvýhodnění v rámci výzvy č. 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artnerství stejného typu subjektů – např. NNO a NNO, podnikatelský subjekt a podnikatelský subjekt – </a:t>
            </a: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0 b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artnerství dvou typů subjektů – např. NNO a podnikatelský subjekt, NNO a místní samospráva, podnikatelský subjekt a místní samospráva – </a:t>
            </a: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3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) partnerství tří a více typů subjektů – např. NNO, podnikatelský subjekt a místní samospráva – </a:t>
            </a: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6 b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 jeden typ organizace jsou považovány všechny její právní for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čet partnerů není rozhodující, body jsou přiděleny na základě propojení různých typů organizac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Šipka doprava 4"/>
          <p:cNvSpPr/>
          <p:nvPr/>
        </p:nvSpPr>
        <p:spPr>
          <a:xfrm>
            <a:off x="555480" y="134136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61" name="Šipka doprava 5"/>
          <p:cNvSpPr/>
          <p:nvPr/>
        </p:nvSpPr>
        <p:spPr>
          <a:xfrm>
            <a:off x="582480" y="4941720"/>
            <a:ext cx="649440" cy="368640"/>
          </a:xfrm>
          <a:prstGeom prst="rightArrow">
            <a:avLst>
              <a:gd name="adj1" fmla="val 50000"/>
              <a:gd name="adj2" fmla="val 50119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ít či nemít partnera? Pokud ano, ko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Důležité otáz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partneři do projektu přines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sou uznatelní v rámci výzv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aká bude partnerova úloha v projekt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aký bude jejich závazek, jak ho přijmou a jak ho napln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ak logicky do sebe zapadají jednotlivé úlohy partnerů? – nejsou někde mezery? Nedublují se určité aktivity? Existují třecí plochy, konflikt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i přípravě partnerského projek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lze ušetřit čas – je třeba mnoho setkání, diskuzí či alespoň e-mai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jistit rovnost účastníků – každý by měl něčím přispět – silnější identifikace s projek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e opravdu společná ochota podílet se na získávání a využívání společných finančních prostředků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Metoda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Hodnotí se použití metody logického rámce, která umožňuje navržení a uspořádání základních charakteristik projektu ve vzájemných souvislos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nitřní logika projektu prokázaná v matici logického rámce, je založena na princip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íčiny a důsledk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hora dolů: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Aby – Je třeba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zdola nahoru: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Jestliže – P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V Jestliže/Pak testu mus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být uvedeny všechny faktory ovlivňující dosažení vyšší úrovně (dosažení vyšší úrovně je podmíněno splněním nižší úrovně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Jestliž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rovedeme ty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Aktivity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pak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sáhneme těch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tupů a výsledků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Jestliž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me dosáhli těch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tupů a výsledků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pak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lze očekávat tu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změn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(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Účel projektu)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Jestliž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me splnili ten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Účel projektu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pak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jsme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ispěli k naplnění toho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obecného cí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brý projekt má zvolené monitorovací ukazatele přiměřené a realistické, cíle jsou vždy kvantifikované a stanovené cílové hodnoty jsou dosažitelné (z hlediska času a rozpočtu) a vedou k měřitelným dopadů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předložení LR -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0 bodů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X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edložení LR –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1 bod.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Šipka doprava 5"/>
          <p:cNvSpPr/>
          <p:nvPr/>
        </p:nvSpPr>
        <p:spPr>
          <a:xfrm>
            <a:off x="520560" y="364500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67" name="Šipka doprava 5"/>
          <p:cNvSpPr/>
          <p:nvPr/>
        </p:nvSpPr>
        <p:spPr>
          <a:xfrm>
            <a:off x="500040" y="2698920"/>
            <a:ext cx="647640" cy="36828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Metoda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116000" y="1468440"/>
            <a:ext cx="77040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403280" y="1663560"/>
          <a:ext cx="7201080" cy="4359240"/>
        </p:xfrm>
        <a:graphic>
          <a:graphicData uri="http://schemas.openxmlformats.org/drawingml/2006/table">
            <a:tbl>
              <a:tblPr/>
              <a:tblGrid>
                <a:gridCol w="1800360"/>
                <a:gridCol w="1800000"/>
                <a:gridCol w="1800360"/>
                <a:gridCol w="1800360"/>
              </a:tblGrid>
              <a:tr h="13114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upec – intervenční logika (strom cílů)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Velmi obecné proč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ktivně měřitelné ukazatele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upec – zdroje a prostředky k ověření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upec – vnější předpoklady a rizika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015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čel projektu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Proč?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015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upy projektu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Co?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015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ity projektu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Jak?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71" name="Zahnutá šipka doleva 8"/>
          <p:cNvSpPr/>
          <p:nvPr/>
        </p:nvSpPr>
        <p:spPr>
          <a:xfrm>
            <a:off x="3008160" y="3687840"/>
            <a:ext cx="601920" cy="863640"/>
          </a:xfrm>
          <a:custGeom>
            <a:avLst/>
            <a:gdLst>
              <a:gd name="textAreaLeft" fmla="*/ 80640 w 601920"/>
              <a:gd name="textAreaRight" fmla="*/ 521280 w 601920"/>
              <a:gd name="textAreaTop" fmla="*/ 159480 h 863640"/>
              <a:gd name="textAreaBottom" fmla="*/ 6289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3302751"/>
                <a:lnTo>
                  <a:pt x="5400" y="21347"/>
                </a:lnTo>
                <a:lnTo>
                  <a:pt x="0" y="17838"/>
                </a:lnTo>
                <a:lnTo>
                  <a:pt x="5400" y="13823"/>
                </a:lnTo>
                <a:lnTo>
                  <a:pt x="5400" y="15704"/>
                </a:lnTo>
                <a:arcTo wR="21600" hR="7979" stAng="3302751" swAng="-2995518"/>
                <a:lnTo>
                  <a:pt x="20991" y="9860"/>
                </a:lnTo>
                <a:arcTo wR="21600" hR="7979" stAng="-307233" swAng="-5092767"/>
                <a:close/>
              </a:path>
              <a:path fill="darkenLess"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-307233"/>
                <a:lnTo>
                  <a:pt x="20991" y="9860"/>
                </a:lnTo>
                <a:arcTo wR="21600" hR="7979" stAng="-307233" swAng="-5092767"/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2" name="Zahnutá šipka doleva 10"/>
          <p:cNvSpPr/>
          <p:nvPr/>
        </p:nvSpPr>
        <p:spPr>
          <a:xfrm>
            <a:off x="3008160" y="2708280"/>
            <a:ext cx="601920" cy="865080"/>
          </a:xfrm>
          <a:custGeom>
            <a:avLst/>
            <a:gdLst>
              <a:gd name="textAreaLeft" fmla="*/ 80640 w 601920"/>
              <a:gd name="textAreaRight" fmla="*/ 521280 w 601920"/>
              <a:gd name="textAreaTop" fmla="*/ 159480 h 865080"/>
              <a:gd name="textAreaBottom" fmla="*/ 63000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3302751"/>
                <a:lnTo>
                  <a:pt x="5400" y="21347"/>
                </a:lnTo>
                <a:lnTo>
                  <a:pt x="0" y="17838"/>
                </a:lnTo>
                <a:lnTo>
                  <a:pt x="5400" y="13823"/>
                </a:lnTo>
                <a:lnTo>
                  <a:pt x="5400" y="15704"/>
                </a:lnTo>
                <a:arcTo wR="21600" hR="7979" stAng="3302751" swAng="-2995518"/>
                <a:lnTo>
                  <a:pt x="20991" y="9860"/>
                </a:lnTo>
                <a:arcTo wR="21600" hR="7979" stAng="-307233" swAng="-5092767"/>
                <a:close/>
              </a:path>
              <a:path fill="darkenLess"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-307233"/>
                <a:lnTo>
                  <a:pt x="20991" y="9860"/>
                </a:lnTo>
                <a:arcTo wR="21600" hR="7979" stAng="-307233" swAng="-5092767"/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3" name="Zahnutá šipka doleva 11"/>
          <p:cNvSpPr/>
          <p:nvPr/>
        </p:nvSpPr>
        <p:spPr>
          <a:xfrm>
            <a:off x="3008160" y="4724280"/>
            <a:ext cx="601920" cy="865440"/>
          </a:xfrm>
          <a:custGeom>
            <a:avLst/>
            <a:gdLst>
              <a:gd name="textAreaLeft" fmla="*/ 80640 w 601920"/>
              <a:gd name="textAreaRight" fmla="*/ 521280 w 601920"/>
              <a:gd name="textAreaTop" fmla="*/ 159840 h 865440"/>
              <a:gd name="textAreaBottom" fmla="*/ 63036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3302751"/>
                <a:lnTo>
                  <a:pt x="5400" y="21347"/>
                </a:lnTo>
                <a:lnTo>
                  <a:pt x="0" y="17838"/>
                </a:lnTo>
                <a:lnTo>
                  <a:pt x="5400" y="13823"/>
                </a:lnTo>
                <a:lnTo>
                  <a:pt x="5400" y="15704"/>
                </a:lnTo>
                <a:arcTo wR="21600" hR="7979" stAng="3302751" swAng="-2995518"/>
                <a:lnTo>
                  <a:pt x="20991" y="9860"/>
                </a:lnTo>
                <a:arcTo wR="21600" hR="7979" stAng="-307233" swAng="-5092767"/>
                <a:close/>
              </a:path>
              <a:path fill="darkenLess"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-307233"/>
                <a:lnTo>
                  <a:pt x="20991" y="9860"/>
                </a:lnTo>
                <a:arcTo wR="21600" hR="7979" stAng="-307233" swAng="-5092767"/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4" name="Zahnutá šipka doprava 7"/>
          <p:cNvSpPr/>
          <p:nvPr/>
        </p:nvSpPr>
        <p:spPr>
          <a:xfrm>
            <a:off x="395280" y="4653000"/>
            <a:ext cx="360360" cy="792000"/>
          </a:xfrm>
          <a:custGeom>
            <a:avLst/>
            <a:gdLst>
              <a:gd name="textAreaLeft" fmla="*/ 48240 w 360360"/>
              <a:gd name="textAreaRight" fmla="*/ 312120 w 360360"/>
              <a:gd name="textAreaTop" fmla="*/ 164160 h 792000"/>
              <a:gd name="textAreaBottom" fmla="*/ 58284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59" stAng="-5400000" swAng="-5400000"/>
                <a:lnTo>
                  <a:pt x="0" y="11414"/>
                </a:lnTo>
                <a:arcTo wR="21600" hR="8959" stAng="10800000" swAng="-3485831"/>
                <a:lnTo>
                  <a:pt x="16200" y="21316"/>
                </a:lnTo>
                <a:lnTo>
                  <a:pt x="21600" y="19146"/>
                </a:lnTo>
                <a:lnTo>
                  <a:pt x="16200" y="16407"/>
                </a:lnTo>
                <a:lnTo>
                  <a:pt x="16200" y="17634"/>
                </a:lnTo>
                <a:arcTo wR="21600" hR="8959" stAng="7314169" swAng="3288825"/>
                <a:lnTo>
                  <a:pt x="204" y="10187"/>
                </a:lnTo>
                <a:arcTo wR="21600" hR="8959" stAng="-10602993" swAng="5202993"/>
                <a:close/>
              </a:path>
              <a:path fill="darkenLess" w="21600" h="21600">
                <a:moveTo>
                  <a:pt x="21600" y="0"/>
                </a:moveTo>
                <a:arcTo wR="21600" hR="8959" stAng="-5400000" swAng="-5400000"/>
                <a:lnTo>
                  <a:pt x="0" y="8959"/>
                </a:lnTo>
                <a:arcTo wR="21600" hR="8959" stAng="10800000" swAng="-197007"/>
                <a:lnTo>
                  <a:pt x="204" y="10187"/>
                </a:lnTo>
                <a:arcTo wR="21600" hR="8959" stAng="-10602993" swAng="5202993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5" name="Zahnutá šipka nahoru 12"/>
          <p:cNvSpPr/>
          <p:nvPr/>
        </p:nvSpPr>
        <p:spPr>
          <a:xfrm>
            <a:off x="395280" y="4653000"/>
            <a:ext cx="549360" cy="647640"/>
          </a:xfrm>
          <a:custGeom>
            <a:avLst/>
            <a:gdLst>
              <a:gd name="textAreaLeft" fmla="*/ 85680 w 549360"/>
              <a:gd name="textAreaRight" fmla="*/ 394920 w 54936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3313283"/>
                <a:lnTo>
                  <a:pt x="21446" y="4581"/>
                </a:lnTo>
                <a:lnTo>
                  <a:pt x="16200" y="0"/>
                </a:lnTo>
                <a:lnTo>
                  <a:pt x="10646" y="4581"/>
                </a:lnTo>
                <a:lnTo>
                  <a:pt x="13346" y="4581"/>
                </a:lnTo>
                <a:arcTo wR="6750" hR="21600" stAng="2086717" swAng="2847297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6" name="AutoShape 44"/>
          <p:cNvSpPr/>
          <p:nvPr/>
        </p:nvSpPr>
        <p:spPr>
          <a:xfrm flipH="1" flipV="1">
            <a:off x="1151640" y="4579200"/>
            <a:ext cx="436680" cy="865080"/>
          </a:xfrm>
          <a:custGeom>
            <a:avLst/>
            <a:gdLst>
              <a:gd name="textAreaLeft" fmla="*/ 58320 w 436680"/>
              <a:gd name="textAreaRight" fmla="*/ 378360 w 436680"/>
              <a:gd name="textAreaTop" fmla="*/ 154080 h 865080"/>
              <a:gd name="textAreaBottom" fmla="*/ 6278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2719859"/>
                <a:lnTo>
                  <a:pt x="7200" y="21158"/>
                </a:lnTo>
                <a:lnTo>
                  <a:pt x="0" y="17501"/>
                </a:lnTo>
                <a:lnTo>
                  <a:pt x="7200" y="12959"/>
                </a:lnTo>
                <a:lnTo>
                  <a:pt x="7200" y="15009"/>
                </a:lnTo>
                <a:arcTo wR="21600" hR="7726" stAng="2719859" swAng="-2382635"/>
                <a:lnTo>
                  <a:pt x="20826" y="9775"/>
                </a:lnTo>
                <a:arcTo wR="21600" hR="7726" stAng="-337224" swAng="-5062776"/>
                <a:close/>
              </a:path>
              <a:path fill="darkenLess"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-337224"/>
                <a:lnTo>
                  <a:pt x="20826" y="9775"/>
                </a:lnTo>
                <a:arcTo wR="21600" hR="7726" stAng="-337224" swAng="-5062776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7" name="AutoShape 44"/>
          <p:cNvSpPr/>
          <p:nvPr/>
        </p:nvSpPr>
        <p:spPr>
          <a:xfrm flipH="1" flipV="1">
            <a:off x="1162800" y="2482200"/>
            <a:ext cx="436680" cy="865080"/>
          </a:xfrm>
          <a:custGeom>
            <a:avLst/>
            <a:gdLst>
              <a:gd name="textAreaLeft" fmla="*/ 58320 w 436680"/>
              <a:gd name="textAreaRight" fmla="*/ 378360 w 436680"/>
              <a:gd name="textAreaTop" fmla="*/ 154080 h 865080"/>
              <a:gd name="textAreaBottom" fmla="*/ 6278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2719859"/>
                <a:lnTo>
                  <a:pt x="7200" y="21158"/>
                </a:lnTo>
                <a:lnTo>
                  <a:pt x="0" y="17501"/>
                </a:lnTo>
                <a:lnTo>
                  <a:pt x="7200" y="12959"/>
                </a:lnTo>
                <a:lnTo>
                  <a:pt x="7200" y="15009"/>
                </a:lnTo>
                <a:arcTo wR="21600" hR="7726" stAng="2719859" swAng="-2382635"/>
                <a:lnTo>
                  <a:pt x="20826" y="9775"/>
                </a:lnTo>
                <a:arcTo wR="21600" hR="7726" stAng="-337224" swAng="-5062776"/>
                <a:close/>
              </a:path>
              <a:path fill="darkenLess"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-337224"/>
                <a:lnTo>
                  <a:pt x="20826" y="9775"/>
                </a:lnTo>
                <a:arcTo wR="21600" hR="7726" stAng="-337224" swAng="-5062776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8" name="AutoShape 44"/>
          <p:cNvSpPr/>
          <p:nvPr/>
        </p:nvSpPr>
        <p:spPr>
          <a:xfrm flipH="1" flipV="1">
            <a:off x="1162800" y="3539520"/>
            <a:ext cx="438120" cy="865080"/>
          </a:xfrm>
          <a:custGeom>
            <a:avLst/>
            <a:gdLst>
              <a:gd name="textAreaLeft" fmla="*/ 58680 w 438120"/>
              <a:gd name="textAreaRight" fmla="*/ 379440 w 438120"/>
              <a:gd name="textAreaTop" fmla="*/ 154080 h 865080"/>
              <a:gd name="textAreaBottom" fmla="*/ 6278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2719859"/>
                <a:lnTo>
                  <a:pt x="7200" y="21158"/>
                </a:lnTo>
                <a:lnTo>
                  <a:pt x="0" y="17501"/>
                </a:lnTo>
                <a:lnTo>
                  <a:pt x="7200" y="12959"/>
                </a:lnTo>
                <a:lnTo>
                  <a:pt x="7200" y="15009"/>
                </a:lnTo>
                <a:arcTo wR="21600" hR="7726" stAng="2719859" swAng="-2382635"/>
                <a:lnTo>
                  <a:pt x="20826" y="9775"/>
                </a:lnTo>
                <a:arcTo wR="21600" hR="7726" stAng="-337224" swAng="-5062776"/>
                <a:close/>
              </a:path>
              <a:path fill="darkenLess"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-337224"/>
                <a:lnTo>
                  <a:pt x="20826" y="9775"/>
                </a:lnTo>
                <a:arcTo wR="21600" hR="7726" stAng="-337224" swAng="-5062776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9" name="TextovéPole 14"/>
          <p:cNvSpPr/>
          <p:nvPr/>
        </p:nvSpPr>
        <p:spPr>
          <a:xfrm>
            <a:off x="3708360" y="3348000"/>
            <a:ext cx="144000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Aby 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Je třeba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80" name="TextovéPole 19"/>
          <p:cNvSpPr/>
          <p:nvPr/>
        </p:nvSpPr>
        <p:spPr>
          <a:xfrm>
            <a:off x="-19080" y="4863960"/>
            <a:ext cx="133344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ak 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Jestliže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obecný (hlavní) cíl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k jehož naplnění projekt přispěje; cíl, k jehož dosažení je projekt jen jednou z podmínek; důvod realizace ve spojení s prioritami v operačních programech (či programových dodatcích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Uvádíme, k dosažení jakého cíle přispějeme, jestliže splníme účel, pro který    jsme se do projektu pouštěli. Hlavní cíl v logickém rámci by měl odpovídat hlavnímu cíli v daném opatření 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TANOVÉNÍ OBECNÉHO CÍLE - CO CHCEME DOSÁHNOU    OBECNĚ, JESTLIŽE SPLNÍME ÚČ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 oblast podpory 3. 4 je obecným cílem podpora Rovných příležitostí žen a mužů na trhu práce a slaďování pracovního a rodinného živo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lepšení slaďování rodinného a pracovního života (v regionu XY, v MS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Šipka doprava 5"/>
          <p:cNvSpPr/>
          <p:nvPr/>
        </p:nvSpPr>
        <p:spPr>
          <a:xfrm>
            <a:off x="493560" y="358920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84" name="Šipka doprava 5"/>
          <p:cNvSpPr/>
          <p:nvPr/>
        </p:nvSpPr>
        <p:spPr>
          <a:xfrm>
            <a:off x="493560" y="566100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účel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který má projekt splnit (jen jeden); čeho hodláme dosáhnout; skutečný motiv; změna, kterou chceme dosáhnout (i když jí třeba nedosáhne jenom jeden projekt). Účel vyjadřuje cíl, ne aktivity; bezprostřední důvod, proč se do projektu pouštíme. O naplnění změny usilujeme výstupy a výsledky (příp. i dopa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CHCEME DOSÁHNOUT, JESTLIŽE PROVEDEME AK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Účelem projektu ve výzvě 88 by mělo být zlepšení situace  v prosazování rovných příležitostí žen a mužů na trhu práce a ve sladění pracovního a rodinného života. Zohlednění Evropského roku aktivního stárnutí a mezigenerační solidar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Firmy jsou motivovány zavézt relevantní opatření pro slaďování rodinného a pracovního života (MPS, regionu X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Šipka doprava 5"/>
          <p:cNvSpPr/>
          <p:nvPr/>
        </p:nvSpPr>
        <p:spPr>
          <a:xfrm>
            <a:off x="463680" y="3032280"/>
            <a:ext cx="647640" cy="36828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Labajová Zuzana, Mgr. (MPSV)</cp:lastModifiedBy>
  <dcterms:modified xsi:type="dcterms:W3CDTF">2012-03-20T13:00:14Z</dcterms:modified>
  <cp:revision>1013</cp:revision>
  <dc:subject/>
  <dc:title>Snímek 1</dc:title>
</cp:coreProperties>
</file>